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38A99-ABCF-41A4-A4F8-A4DECAC9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229B2-C000-4B59-BC7B-E1D2D84A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8C9B5-5298-4208-ABCA-9A1723C4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8EDD8-777C-4872-B474-9A0EE0FA0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5951-224C-478E-9456-5F9CCE28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615FE-172E-4B23-828C-8FA18E6CE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07CA-D737-45CB-88BC-8F586F08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58F9-7CB9-4EA3-B119-D5DF9004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7CBF-C395-4116-A82E-E5AFD19B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4A087-27D7-47AD-88E2-86A58488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78F30-AB26-436E-B519-F6DC5678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70BE-78DC-4102-BF41-C8DD7F610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84DE-1F86-41F7-BBEA-B653FF2A7E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295280"/>
            <a:ext cx="899172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Matura MT Script Capitals"/>
              </a:rPr>
              <a:t>Scenario 3:</a:t>
            </a:r>
            <a:endParaRPr b="0" lang="en-US" sz="10000" spc="-1" strike="noStrike">
              <a:solidFill>
                <a:srgbClr val="000000"/>
              </a:solidFill>
              <a:latin typeface="Calibri"/>
            </a:endParaRPr>
          </a:p>
        </p:txBody>
      </p:sp>
      <p:sp>
        <p:nvSpPr>
          <p:cNvPr id="42" name=""/>
          <p:cNvSpPr txBox="1"/>
          <p:nvPr/>
        </p:nvSpPr>
        <p:spPr>
          <a:xfrm>
            <a:off x="457200" y="2819160"/>
            <a:ext cx="8229600" cy="160020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Copperplate Gothic Bold"/>
              </a:rPr>
              <a:t>Office services</a:t>
            </a:r>
            <a:endParaRPr b="0" lang="en-US" sz="60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pperplate Gothic Bold"/>
              </a:rPr>
              <a:t>Self-direction</a:t>
            </a:r>
            <a:endParaRPr b="0" lang="en-US" sz="44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Matura MT Script Capitals"/>
              </a:rPr>
              <a:t>Members:</a:t>
            </a:r>
            <a:endParaRPr b="0" lang="en-US" sz="6500" spc="-1" strike="noStrike">
              <a:solidFill>
                <a:srgbClr val="000000"/>
              </a:solidFill>
              <a:latin typeface="Calibri"/>
            </a:endParaRPr>
          </a:p>
        </p:txBody>
      </p:sp>
      <p:sp>
        <p:nvSpPr>
          <p:cNvPr id="53" name=""/>
          <p:cNvSpPr txBox="1"/>
          <p:nvPr/>
        </p:nvSpPr>
        <p:spPr>
          <a:xfrm>
            <a:off x="1523520" y="1600200"/>
            <a:ext cx="6629400" cy="452592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Copperplate Gothic Bold"/>
              </a:rPr>
              <a:t>Virna Fe Gumia</a:t>
            </a:r>
            <a:endParaRPr b="0" lang="en-US" sz="3200" spc="-1" strike="noStrike">
              <a:solidFill>
                <a:srgbClr val="000000"/>
              </a:solidFill>
              <a:latin typeface="Calibri"/>
            </a:endParaRPr>
          </a:p>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pperplate Gothic Bold"/>
              </a:rPr>
              <a:t>Precious Kyrie Undag</a:t>
            </a:r>
            <a:endParaRPr b="0" lang="en-US" sz="3200" spc="-1" strike="noStrike">
              <a:solidFill>
                <a:srgbClr val="000000"/>
              </a:solidFill>
              <a:latin typeface="Calibri"/>
            </a:endParaRPr>
          </a:p>
          <a:p>
            <a:pPr marL="343080" indent="-343080">
              <a:lnSpc>
                <a:spcPct val="100000"/>
              </a:lnSpc>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Copperplate Gothic Bold"/>
              </a:rPr>
              <a:t>Hannah Faith Tormis</a:t>
            </a:r>
            <a:endParaRPr b="0" lang="en-US" sz="3200" spc="-1" strike="noStrike">
              <a:solidFill>
                <a:srgbClr val="000000"/>
              </a:solidFill>
              <a:latin typeface="Calibri"/>
            </a:endParaRPr>
          </a:p>
          <a:p>
            <a:pPr marL="343080" indent="-343080">
              <a:lnSpc>
                <a:spcPct val="100000"/>
              </a:lnSpc>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pperplate Gothic Bold"/>
              </a:rPr>
              <a:t>Clarence Dale Mosqueda</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pperplate Gothic Bold"/>
              </a:rPr>
              <a:t>Karla Gumanao</a:t>
            </a:r>
            <a:endParaRPr b="0" lang="en-US" sz="3200" spc="-1" strike="noStrike">
              <a:solidFill>
                <a:srgbClr val="000000"/>
              </a:solidFill>
              <a:latin typeface="Calibri"/>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8077320" cy="64767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WorldSc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 </a:t>
            </a:r>
            <a:endParaRPr b="0" lang="en-US" sz="2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1" lang="en-US" sz="2700" spc="-1" strike="noStrike">
                <a:solidFill>
                  <a:srgbClr val="c00000"/>
                </a:solidFill>
                <a:latin typeface="Courier New"/>
                <a:ea typeface="Courier New"/>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university (one of WSTL’s largest clients) wants immediate service on the tapes of a book she is dictating, regardless of how many other clients are inconvenienced. </a:t>
            </a:r>
            <a:endParaRPr b="0" lang="en-US" sz="2700" spc="-1" strike="noStrike">
              <a:solidFill>
                <a:srgbClr val="000000"/>
              </a:solidFill>
              <a:latin typeface="Calibri"/>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Nisha doesn’t think she can finish all the tapes on time and goes to Thomas,her supervisor, to discuss the problem and possible solutions. She and Thomas decide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a:t>
            </a:r>
            <a:endParaRPr b="0" lang="en-US" sz="26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763120" cy="66294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	</a:t>
            </a:r>
            <a:r>
              <a:rPr b="1" lang="en-US" sz="2600" spc="-1" strike="noStrike">
                <a:solidFill>
                  <a:srgbClr val="c00000"/>
                </a:solidFill>
                <a:latin typeface="Courier New"/>
                <a:ea typeface="Courier New"/>
              </a:rPr>
              <a:t>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r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 </a:t>
            </a:r>
            <a:endParaRPr b="0" lang="en-US" sz="2600" spc="-1" strike="noStrike">
              <a:solidFill>
                <a:srgbClr val="000000"/>
              </a:solidFill>
              <a:latin typeface="Calibri"/>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04920"/>
            <a:ext cx="8839440" cy="640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99"/>
                </a:solidFill>
                <a:latin typeface="Matura MT Script Capitals"/>
                <a:ea typeface="Aharoni"/>
              </a:rPr>
              <a:t>The 21</a:t>
            </a:r>
            <a:r>
              <a:rPr b="0" lang="en-US" sz="8000" spc="-1" strike="noStrike" baseline="30000">
                <a:solidFill>
                  <a:srgbClr val="ff3399"/>
                </a:solidFill>
                <a:latin typeface="Matura MT Script Capitals"/>
                <a:ea typeface="Aharoni"/>
              </a:rPr>
              <a:t>st</a:t>
            </a:r>
            <a:r>
              <a:rPr b="0" lang="en-US" sz="8000" spc="-1" strike="noStrike">
                <a:solidFill>
                  <a:srgbClr val="ff3399"/>
                </a:solidFill>
                <a:latin typeface="Matura MT Script Capitals"/>
                <a:ea typeface="Aharoni"/>
              </a:rPr>
              <a:t> century </a:t>
            </a:r>
            <a:br>
              <a:rPr sz="8000"/>
            </a:br>
            <a:r>
              <a:rPr b="0" lang="en-US" sz="8000" spc="-1" strike="noStrike">
                <a:solidFill>
                  <a:srgbClr val="ffff00"/>
                </a:solidFill>
                <a:latin typeface="Matura MT Script Capitals"/>
                <a:ea typeface="Aharoni"/>
              </a:rPr>
              <a:t>skills</a:t>
            </a:r>
            <a:r>
              <a:rPr b="0" lang="en-US" sz="8000" spc="-1" strike="noStrike">
                <a:solidFill>
                  <a:srgbClr val="ff3399"/>
                </a:solidFill>
                <a:latin typeface="Matura MT Script Capitals"/>
                <a:ea typeface="Aharoni"/>
              </a:rPr>
              <a:t> </a:t>
            </a:r>
            <a:br>
              <a:rPr sz="8000"/>
            </a:br>
            <a:r>
              <a:rPr b="0" lang="en-US" sz="8000" spc="-1" strike="noStrike">
                <a:solidFill>
                  <a:srgbClr val="7030a0"/>
                </a:solidFill>
                <a:latin typeface="Matura MT Script Capitals"/>
                <a:ea typeface="Aharoni"/>
              </a:rPr>
              <a:t>needed in the</a:t>
            </a:r>
            <a:br>
              <a:rPr sz="8000"/>
            </a:br>
            <a:r>
              <a:rPr b="0" lang="en-US" sz="8000" spc="-1" strike="noStrike">
                <a:solidFill>
                  <a:srgbClr val="00b0f0"/>
                </a:solidFill>
                <a:latin typeface="Matura MT Script Capitals"/>
                <a:ea typeface="Aharoni"/>
              </a:rPr>
              <a:t> scenario:</a:t>
            </a:r>
            <a:endParaRPr b="0" lang="en-US" sz="80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90360"/>
            <a:ext cx="822960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Copperplate Gothic Bold"/>
              </a:rPr>
              <a:t>Problem Identification, formulation and solution.</a:t>
            </a:r>
            <a:endParaRPr b="0" lang="en-US" sz="4400" spc="-1" strike="noStrike">
              <a:solidFill>
                <a:srgbClr val="000000"/>
              </a:solidFill>
              <a:latin typeface="Calibri"/>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26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pperplate Gothic Bold"/>
              </a:rPr>
              <a:t>Interpersonal and Collaborative Skills</a:t>
            </a:r>
            <a:endParaRPr b="0" lang="en-US" sz="4400" spc="-1" strike="noStrike">
              <a:solidFill>
                <a:srgbClr val="000000"/>
              </a:solidFill>
              <a:latin typeface="Calibri"/>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7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pperplate Gothic Bold"/>
              </a:rPr>
              <a:t>Critical thinking and systems thinking</a:t>
            </a:r>
            <a:endParaRPr b="0" lang="en-US" sz="4400" spc="-1" strike="noStrike">
              <a:solidFill>
                <a:srgbClr val="000000"/>
              </a:solidFill>
              <a:latin typeface="Calibri"/>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06:36Z</dcterms:created>
  <dc:creator>user</dc:creator>
  <dc:description/>
  <dc:language>en-US</dc:language>
  <cp:lastModifiedBy>Student</cp:lastModifiedBy>
  <dcterms:modified xsi:type="dcterms:W3CDTF">2012-07-05T01:39:59Z</dcterms:modified>
  <cp:revision>14</cp:revision>
  <dc:subject/>
  <dc:title>Scenario 3:</dc:title>
</cp:coreProperties>
</file>